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130F-7A42-422A-8DF1-075E7D02AD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0DAD-D473-4AF1-A1D5-8B294F0410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E161-9D8E-4E05-939A-8E8406824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7C72-98EE-4296-A3EE-D42269766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FA5F-7288-4B17-B71F-F34169526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B4F1-B2E2-4EA8-A579-AAE358CDA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A45D7-A905-4094-B8AB-28B18B03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594B8-61A9-48D0-934C-B5596FD7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3C83B-3B51-4745-ACC0-E6EAC442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1D280-9BE2-4462-9E55-A5EBBF5D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DEE0E-85C2-40E4-ACA0-728F03EC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6AB07-CB2C-4E24-8512-6F1D7A59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EB786-A2B4-40AC-BB65-F20A5992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1A4B-DF5A-4AF3-9EC0-BB2DF954D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7D216-9018-4090-A0C3-CD97150D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14ED8-B6C9-4371-AA20-25F42A4A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E13CA-D4CB-4BA4-B3B7-6DE2BE51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24D28-5137-4D3E-9F84-000EC754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D26BD-3FC5-44CC-AA5F-EE4E1D7C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D371B1-0038-4B94-ACD0-78663AA9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0F48C3-6DAB-4C77-86BB-8903512E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C0FD96-E263-43B4-90F5-87C8E666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13956E-8F00-40A5-8F58-E25CD167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324E3E-AC8E-44BB-8C70-271D685B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38A9-F578-43B0-B657-844DCE80A8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DC097D-333A-49BB-B25C-D74E6150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99925B-4804-41B7-81B5-7C726194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F36804-B78C-45AD-B605-FB7C2FB7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18923B-CA67-4F37-BB2A-B7E1752B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CAC470-597C-4C18-ABC4-24EC29FA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57B311-9FE9-4D72-984B-D5568831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D181CE-37F4-4161-B66F-0CEEBAF9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83C48-681A-4C0F-A9CF-92366C6CEF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B305B-7AE6-406D-8A70-498E3D4F07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5D8E8-B424-4111-A2C9-D5638B2E8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C624-90FD-4695-BD6C-529FA1CFAC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DE49D-BA42-4237-BFAC-1628EFB9EF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DD030-7997-4982-A705-1EA16FB376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933CE-2945-4D00-AE71-9BDFCAE338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D2E51-AE40-4917-9A44-792EF48F14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71178-3B00-4C83-A159-A3F77DF14A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FD0C7-67AB-47B2-A88F-ECDE684D69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C4634-841B-4516-B57B-42D3619836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E4457-D3ED-46D3-9E0B-3BB1905BC6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44728-4BB7-4E7D-B76D-A5F77538A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AAFC-05AE-48D6-B2BB-E066761DA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0D9D-1B82-4110-9F19-265F7AA07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5C79-7C4B-411D-979C-E2B5333D1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4805-F87D-4977-9EFA-8AD7E6119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6597-3021-4683-B570-C5F168FD3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0E90-FE88-4D09-BA8E-FB436A5E640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60DC-EF65-49DA-9766-8E5E1B92EB5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294F-5A80-4E30-82C9-F6EC48FBD70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72A5-FEF3-4BCD-B836-0AE4153D3B6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2781360"/>
            <a:ext cx="807264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ruction Products Regulation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ights and obligations of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D55E-E974-4EE6-9782-204AEEE1AF3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735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Provide a clear, complete and reliable information on products placed on the market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Same obligation for all manufacturers (&amp; importers) in Europ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Declaration of performance (DoP) for a product covered by an hEN or an ETA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termination of the “product-type”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rawn up a DoP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Supply the DoP with the produc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18DD-3C89-4E62-BC1A-14235449540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28240" y="160020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echnical documentation 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Description of all the relevant elements related to the assessment and verification of constancy of performanc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Kept 10 years, up-dated, provided on the request of authoriti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CE Marking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ffixed on the product, or a label, or the packaging or accompanying documents (art 9.1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llowed by additional information, including “level and class declared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Market Surveillanc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ooperate in case of request, providing all the elements abov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In case of doubt or non conform product: correct, inform, cooperate (Art 11.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7-8, 56.1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1329-C42F-4DEA-9509-9BB78229A87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14200" y="1456920"/>
            <a:ext cx="87868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claration of Performance (DoP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ossible derogations (art 5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NPD option (no test!) where essential characteristic is not regulated (art 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Draw up the DoP on the basis of existing CE marking affixed under CPD (art 6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termination of Product-type: Simplified procedures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Deemed to satisfy procedure (Art 27.5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WT/WFT, Shared IT, Cascading (Art 3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icro-enterprises turning system 3 into system 4 (Rec 27, Art 37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ducts individually manufactured turning system 3 into system 4 (Art 38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European Technical Assessment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Request an ETA when hENs do not allow to assess the product (Art 19)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For ETAs issued before 1/07/2013, EADs consistent with existing ETAGs/CUAP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duct Contact Points (Rec 42-44, Art 10), Information campaigns (Rec 54)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1131480" indent="0" algn="just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CB3A-FB84-4F02-BE35-8B45FBF4919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Right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Pascal Bar</cp:lastModifiedBy>
  <cp:lastPrinted>2000-03-16T10:24:10Z</cp:lastPrinted>
  <dcterms:modified xsi:type="dcterms:W3CDTF">2011-07-04T16:22:28Z</dcterms:modified>
  <cp:revision>599</cp:revision>
  <dc:subject/>
  <dc:title>Aucun titre de diapositive</dc:title>
</cp:coreProperties>
</file>